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5C5C-02A7-42AF-8B48-FACF8C56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3420-9E41-4CFC-A8EE-BA4C03E2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A94F-AF9A-44EC-9779-D2A7545D4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038D-1272-46DB-88A3-5D25402BC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E380-0D35-477A-AA9A-EC8F374E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D840-B11E-4079-B696-8C886F6C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C484-57D5-4EC6-8656-E1EDAB50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9D6E-440C-4B62-B2B6-94577F9C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591B-44FF-4752-8DCD-0935A7C4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A6C0-49DC-49D0-9869-C3111CA8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6FFE-06F9-42EB-A158-75FC4DF2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3AA0-8F3C-41BA-8C90-86FA59B1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7603-2D61-45A9-B38D-24D0D3F2E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3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9600" spc="-1" strike="noStrike">
                <a:solidFill>
                  <a:srgbClr val="000000"/>
                </a:solidFill>
                <a:latin typeface="Arial"/>
              </a:rPr>
              <a:t>Top of the Poppadams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28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9600" spc="-1" strike="noStrike">
                <a:solidFill>
                  <a:srgbClr val="000000"/>
                </a:solidFill>
                <a:latin typeface="Arial"/>
              </a:rPr>
              <a:t>All the Raj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sk: read and annotate on the Jay Sean article, considering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parts of his upbringing were stereotypically ‘Asian’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was he initially treated by the pr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and why did this cha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 do you think he is more successful in the US than the U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his Sikh roots still important to hi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ay Sean art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parts of his upbringing were stereotypically ‘Asian’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ution (only quit job after signing contrac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ance of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ying property to rent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ther a business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status professional qual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ay Sean art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was Jay Sean initially treated by the pr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 an ‘Asian’ rather than a ‘British’ R&amp;B si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adlines like “Top of the Popadums” and “All the Raj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and why did this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-modelled himself - ditched Indian samples and his old, spiky-haired Asian look for a poppier R&amp;B vi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ay Sean art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do you think he is more successful in the US than the U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 care less (and know less) about his ethnicity – “I had a clean slat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his Sikh roots still important to hi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s, he is still proud of his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 believes he has helped young Asians aspire to him as a rol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4:20:18Z</dcterms:created>
  <dc:creator>#</dc:creator>
  <dc:description/>
  <dc:language>en-US</dc:language>
  <cp:lastModifiedBy>#</cp:lastModifiedBy>
  <dcterms:modified xsi:type="dcterms:W3CDTF">2009-11-17T14:21:06Z</dcterms:modified>
  <cp:revision>1</cp:revision>
  <dc:subject/>
  <dc:title>“Top of the Poppadams”</dc:title>
</cp:coreProperties>
</file>